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9.jpeg" ContentType="image/jpeg"/>
  <Override PartName="/ppt/media/image28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27.jpeg" ContentType="image/jpeg"/>
  <Override PartName="/ppt/media/image5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E5B-8E29-4B57-BE7E-F4CFC56A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BA6-27F1-4A47-8EFF-7D91617E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083-8D44-4BBD-AF35-46938B5E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E95-E859-4BF0-95CA-D65408A9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858-A4FE-40F9-9567-783E2B95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0A5-4DCC-4762-9214-2537BDE0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D9C-3A48-41D8-A136-81C64A2C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86D-C40B-4357-8AA4-1ECCF688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B82-6A99-4267-BD87-3D9E2D89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6DD-79CE-43A6-B40A-39D013C8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A23-6F83-4765-ACC3-D576C836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803-3E33-4380-9E39-80232334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1C37-EF34-4119-B7F2-610A98336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mexconnect.com/" TargetMode="External"/><Relationship Id="rId2" Type="http://schemas.openxmlformats.org/officeDocument/2006/relationships/hyperlink" Target="http://www.azcentral.com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49476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3049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las (Candle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502160" cy="5105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4120" y="297180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57800" y="38088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esh Flow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n de Muer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278160" cy="4334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733920" y="2057400"/>
            <a:ext cx="50338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4525920" cy="6410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914400"/>
            <a:ext cx="358128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ugar Skul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are given sugar skulls with their names written on the forehea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ars in the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44193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Altars have decorations:  papel picado, candles, flowers, photographs of the departed, candy skulls with the name of the dec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Altars have foods and drinks: bottles of beer or tequila, cups of atole (a sweet drink made of milk, sugar, and corn starch) or coffee, pop (many families will sacrifice to purchase a favorite brand!) and fresh water, as well as platters of rice, beans, chicken or meat in mole sauce, candied pumpkin or sweet potatoes, fruits and brea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9339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irits return home…there they find many “goodies” they enjoyed while l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wash basin and clean towel are placed on the altar for the spirit to “freshen up” after a long jour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vorite foods and dri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vorite cigarettes or cig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ys and candy for spirits of deceased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ole de le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582624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666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nounced mole-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371680" cy="172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6400800" cy="4583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2111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bidas (drink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00024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224964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66880" y="1981080"/>
            <a:ext cx="3556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3657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 vary throughout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elebration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ration and family gathering at ceme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f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ren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fferings) on al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us rites and pr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there are firewor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2895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454824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m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902040" cy="5029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4876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9116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1036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970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ta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ea of the home is cleared of furnis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ors and walls are wa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ble is covered with clean sheets, a blanket, or tablecl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ense is usually bu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candles are 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62480" y="228600"/>
            <a:ext cx="4513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94920" y="47239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members clean tombs and grav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w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bs are painted and repaired if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es are decorated with flower crosses, wreath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floral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8840" y="609120"/>
            <a:ext cx="3429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young boy has returned from the market with flowers for the ceme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ion to the ceme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74760" y="1981080"/>
            <a:ext cx="479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rmy band participates in a local para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towns have parades including processions on horse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457200"/>
            <a:ext cx="2514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regions, November 1 is dedicated to the remembrance of deceased infants and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5295960" cy="227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33920" y="3581280"/>
            <a:ext cx="48765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ults are honored November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ús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ntertains at the ceme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cemente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476760" cy="5764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8305920" cy="266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members gather at the cemetery.  They bring picnics and mariachi bands may play favorite songs.  Local restaurants set up food stands.  An outdoor church service is usually hel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755640"/>
            <a:ext cx="77724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5069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9246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437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3532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5334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In mid-October markets begin displaying items needed for Dia de los Muertos inclu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Skeletons (toys, figurines, swe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Papel Pi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Floral wreaths and cr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Cand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Fresh 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-cempazuchiles (marigo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-barro de obispo (cockscom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Sugar or chocolate skulls and coff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Pan de muerto (bread of the de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46680" y="685800"/>
            <a:ext cx="339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49480" y="0"/>
            <a:ext cx="5157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44720" y="0"/>
            <a:ext cx="53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79680" y="609480"/>
            <a:ext cx="4183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664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83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stoms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USA, most people avoid talking about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cultures around the world have rituals for remembering loved on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cultures have similar rituals involving the lighting of lamps or candles and laying out food and dr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ancient Egyptians had similar traditions or remembering lov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280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s and information taken from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mexconnect.c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azcentral.co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676520" y="2209680"/>
            <a:ext cx="57150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ush Script MT"/>
              </a:rPr>
              <a:t>Calaca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3857760" cy="5105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4064040" cy="3162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05764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eletons are often shown in everyday activities which depict a dead person’s profession or interests.  The calacas are often placed on altars.  This shows the spirit that he has not been forgo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54360" y="358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33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9339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2286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pel P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80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ral wreaths and cro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343400" cy="3498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41911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23:03:56Z</dcterms:created>
  <dc:creator>carol gaab</dc:creator>
  <dc:description/>
  <dc:language>en-US</dc:language>
  <cp:lastModifiedBy>NYCDOE</cp:lastModifiedBy>
  <dcterms:modified xsi:type="dcterms:W3CDTF">2011-10-26T13:48:11Z</dcterms:modified>
  <cp:revision>10</cp:revision>
  <dc:subject/>
  <dc:title>PowerPoint Presentation</dc:title>
</cp:coreProperties>
</file>